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click.wav" ContentType="audio/x-wav"/>
  <Override PartName="/ppt/media/image7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4CF7-8DD3-4161-A97D-D275853AE7A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egnaposto numero diapositiva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5E4E-7F29-4109-B338-9D19C0305A7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CBD-2A46-4D76-A3AC-AA9DF3C2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0E3-AF85-4AA4-89B1-72CF7053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32CE8-8CA4-462D-87D3-A5A2BDAD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D0A9B-E821-4B9C-B21E-203E787E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C5854-B4E5-4ADE-B2F8-8F2C8DAE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458BA-7164-44B8-B0A7-022D49EF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77C75-0A24-42F6-B5BD-48091B32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CD962-97B6-47D0-A934-18E85617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77A14-4DA1-4A86-8054-79198B4E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E3CE6-C173-4BCD-A571-F9D88E5A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F4138-5748-4D2D-9955-277ECE8A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16448-1C76-4D01-A556-999628EB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4CF-1DFF-4C05-833E-4490D4AE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447BE-9BC9-40AF-8F56-26FFA414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18DDA-E371-4C83-927E-619FB095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21ED2-45AE-4E3F-95B6-7D919A54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65753-C8A3-4E9B-8C82-D5A69A36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23877-25C1-45A2-81E7-4897764C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98A6E-359C-422A-9530-6D7846D5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B8FDD-4651-480B-89C6-799539D6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9FC4D-8455-4870-BFD0-16AF870D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5BFBC-F320-4925-9DD8-41F26EC2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5F928-F4EA-4880-A5A0-3250F427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605-8CCE-4E3C-A182-B601B0DE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A9FB4-0B61-4C14-8A1B-AEF199B4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1018B-AA85-4890-9414-D9C1020A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45561-3E38-45BA-8690-3D2590F9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39844-F5E5-4D6D-8824-8F0DBC37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A7B38-C930-4C5A-A1E1-8275D519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DBE38-2F81-4FAA-8690-3B74B58E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CE63E-1162-4331-8720-38AAC2FA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443AE-3C18-4CFD-854E-D96040C6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AB8F8-E4D6-40A8-852C-84DE91C0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6365D-7C86-4884-9987-181CDCA2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D66E-2CF5-4D0B-9E1A-DE7B478E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F8C2D-FE06-45F3-B543-B8B4D946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23ECD-1AD9-4575-BE4B-581CC67F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D54CD-0F6F-401D-B131-AA57EB92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38F07-B784-4795-B948-A4D70FAA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0A2EF-23F7-4E8A-83ED-95440CA5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25F8F-8B57-44D1-8DEA-BD759B75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9843A-6F89-47BA-99D5-A2916372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5D71A-1917-44A4-938A-EC246E90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65F9E-3ACC-4D99-AEF7-3B357722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8718A-B1AF-455A-BF87-9EB08B1E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8F3C-771E-4611-8B2D-3B08F67A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4E4F8D-95B2-4B2B-9462-D3C29F1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6C5D9-B506-4BAD-B2BB-4A88FEF9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6E959-FE83-495A-8B94-5E77BA38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511F5-77E1-43E0-B4D9-A8DA9D96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65B25-D84B-4B47-A940-D07B49B8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7C32-2D48-40F9-94B7-CB94BB13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B953-816A-44C1-87DF-E814CEC2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45CE-3883-4C1B-AD07-77B70C61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C3D5-18A5-4C00-BF20-DF329C51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62B1-6CE8-40AB-873B-E074BC6B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6FC-F1C4-4251-B529-4B0BA040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44C1-74BD-45C6-B0F0-6D746992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6867-F413-4FEA-AD21-067ECCFC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4567-4442-4F63-8F70-49423BE0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B932-E2EB-417C-A8C7-F35B3DA7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FA4E-DDFB-48B1-A39C-E3E1854C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6526-1463-4DCD-A8AD-F9C6EE2C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3E79-91ED-474B-A1C3-F88B78D7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ABF73-618C-4797-98C2-20BBB2D3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512E-F700-49A2-BB43-B974B57C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2B21B-487B-4D86-9739-A127A8F5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59F-CD77-48BA-BC91-116357C3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F711F-FBA6-49C2-91F4-12E6FFC8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8968-79E4-43DC-B930-4C567791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8E33-9CD3-49EC-B7AC-EA6A3AFB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FD81B-CBC1-494B-9990-660142EB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5044-711C-4A77-88B4-D93D00BC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50C3D-029C-46C1-BEC9-AC3245B2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36F2-6872-4BA3-AA5D-E839108E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D9B20-E5B8-4D16-8233-924C1687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245DD-9CC6-4CBA-A722-BD143B67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C81DD-E1EB-4494-A8ED-3C0FB8C9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072-8CAE-41D2-886F-1DE6A998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FB74A-0EE8-45B6-B838-BB5F7B4D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EC10F-0A5D-4838-BDD8-80A4C8CA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41A92-58C9-4034-99DE-B7AD9C2A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07D0-571C-4D72-A4B2-B5298913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14C3B-31A9-407E-B118-D8F6CAEE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1E27-E2EB-4132-833C-40EF29D6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0CF8-6B4D-433E-8737-4AD7677D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2A62-8CC4-4613-B73B-7FF8D41B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2C53A-C588-45AB-91A8-F6643832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833BD-48AC-4469-89FA-667FA550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FCA-C51B-45C0-A945-1EF128C6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572C9-7AEA-47F8-92B1-A520FB6C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A0E5A-4689-4EDA-A82B-CA894931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BF14C-E433-4930-BF1F-BE120729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05D63-B3B2-4DFD-BBD9-EC108CD2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C8971-443F-4C4E-A6D3-B66CE4D6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7EC14-DF28-4F7B-A2BB-882CE38B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7C955-7C59-4BFB-B5A5-C2B1017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425B7-822E-4BCC-8B60-1883377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BB970-1D64-4C17-BACA-F79FB376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87D66-50C6-4F31-AFD7-F30C7612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68E-85D2-49EB-A9ED-7FCF2340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D8872-99B8-4DEA-AE09-AFFC734F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217F5-CDCF-4898-B422-D399348E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A08E4-3082-4A62-B11E-7582468E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D21CF-905A-4960-9B20-78EDF8D7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5A2E1-BC33-4CF8-A8CE-5B4D8478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7021-6ECA-4F80-986A-CED8D770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E0654-F788-447C-8062-4AAA7890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01469-D7CD-401A-A41F-24B106D4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5E827-B4A2-488A-9224-4044BEB3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ED2A6-6801-4CC9-8676-5EF83714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B21-B193-4EE2-A393-6E59F744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3E950-56FA-4FF8-B1B8-22D81015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EBE00-CB94-4828-93D2-DF500EA6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C3E8D-5908-44EF-A444-E94C337F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8C4AD-5879-4A0E-9324-0AA75811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8638A-13A6-420A-99C8-9FCD01EA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D9DDE-4C26-4144-B428-30D60439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ACE1E-04FC-414C-9F5D-C7B7F66A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9503E-6F5F-4B98-AE81-86553007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CD747-564D-4BCD-9098-4479D586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94B31-A8CC-41E8-B48E-B95D727A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7D0-669C-4A35-B0EF-B47D124F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6CCFF-A99B-4EB4-A7E9-66FA21B9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7ED02-414B-428D-9A0D-47CB0367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4E861-4BF2-4690-969C-A91F9B08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13C21-ADEC-4C7F-9090-BF64716C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FC22E-A1DA-48F6-9A0E-67651605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FD9BA-B260-44DA-BBB4-A6B6F8FA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AE4DA-AC49-4ACB-95C0-A536F1D2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E8048-46F6-4AF0-9AC9-CCCC59AE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7009E-C627-4415-BA43-56B7D643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85A96-0E61-456B-BD1C-494B7A9B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3F1-01D6-41B2-96CA-92F3DC64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5B849-A3A5-4702-96C3-84D8CF90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5840D-2000-4A15-8B08-3A035882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CB38C-7514-4A36-B664-B921B2A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F1CA0-8291-47B3-9EA9-B3C3167A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21153-2FDD-48D3-AA73-F84443A0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B3110-6D80-45D0-88AA-F0759D73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E4A29-6A3E-4FC5-8666-FCEEF736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FF090-EDA0-4ABE-A3B5-F5E5A2A9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84EB3-7B7F-4BA8-AD37-915500C7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72ED6-6BF7-419B-829E-7EAE319B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6C09-7B25-4D48-8F79-8078FAF0F447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onnettore 1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ttango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ttangolo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ttangolo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ttangolo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ttangolo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ttangolo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ttangolo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e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e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ttangolo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61F4-82A8-41F3-A9BA-DA5BAB36F82C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336A-D63A-414F-B996-75626D706CE6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ttangolo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ttangolo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ttangolo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ttangolo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onnettore 1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e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e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C718-91F9-432F-8438-1B86312EC9EF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tango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ttangolo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tangolo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e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4AD-3F51-489C-A678-2BE350B60CE2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D688-73B5-432D-BBFC-E3C63C10911E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tangolo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ttango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tangolo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tangolo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ttangolo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tangolo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tangolo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ttore 1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e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e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B624-B471-435C-BDD2-CB435CC018AC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nettore 1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FBED-8471-47B7-B00E-6C28638A9D01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nnettore 1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ttangolo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ttangolo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ttangolo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ttangolo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ttangolo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tangolo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ttore 1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ttangolo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e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e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F7FF-B8A4-4D69-91AF-1207EAAD9C93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2971-6DBB-4EF7-8ECD-128ACD1922A3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ttango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ttangolo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ttangolo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ttangolo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ttangolo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ttangolo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B598-026F-426A-AFD5-E0BA3F20270D}" type="slidenum">
              <a:rPr b="0" lang="it-IT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ttangolo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ttango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ttangolo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ttangolo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ttangolo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ttangolo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ttangolo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nettore 1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e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e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ttangolo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BA48-B468-42A6-A92D-25B1EE6A45D1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46b86"/>
                </a:solidFill>
                <a:latin typeface="Georgia"/>
              </a:rPr>
              <a:t>QUATTRO CITTÀ ITALIAN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46b86"/>
                </a:solidFill>
                <a:latin typeface="Georgia"/>
              </a:rPr>
              <a:t>TRA GUERRA E COMMERCI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d16349"/>
                </a:solidFill>
                <a:latin typeface="Georgia"/>
              </a:rPr>
              <a:t>Le repubbliche marinar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3357720" y="3571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itolo 1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L’espansione di Genov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5" descr="Espansione_di_Genova"/>
          <p:cNvPicPr/>
          <p:nvPr/>
        </p:nvPicPr>
        <p:blipFill>
          <a:blip r:embed="rId1"/>
          <a:stretch/>
        </p:blipFill>
        <p:spPr>
          <a:xfrm>
            <a:off x="395280" y="1341360"/>
            <a:ext cx="8389800" cy="5122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Venezi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CasellaDiTesto 6"/>
          <p:cNvSpPr/>
          <p:nvPr/>
        </p:nvSpPr>
        <p:spPr>
          <a:xfrm>
            <a:off x="142920" y="1357200"/>
            <a:ext cx="8715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La più importante repub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marinara fu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Venezia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, in Veneto; 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ebbe stretti legami con l’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Impero bizantino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dominò fino al XVI secolo il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mare Adriatico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e i commerci nel Mediterraneo orient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si espanse anche sulla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terraferma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(Veneto, Friuli e Venezia Giulia, Lombardia orientale, Istria e Dalmaz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5214960" y="1428840"/>
            <a:ext cx="371484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lick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1000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1000"/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1000"/>
                                        <p:tgtEl>
                                          <p:spTgt spid="6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5" descr="Repubblica_di_Venezia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5075280"/>
          </a:xfrm>
          <a:prstGeom prst="rect">
            <a:avLst/>
          </a:prstGeom>
          <a:ln w="0">
            <a:noFill/>
          </a:ln>
        </p:spPr>
      </p:pic>
      <p:sp>
        <p:nvSpPr>
          <p:cNvPr id="647" name="Titolo 1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Venezia nel Mediterrane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Quattro domande per inizia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9" name="Picture 2" descr="C:\Documents and Settings\Emanuele\Impostazioni locali\Temporary Internet Files\Content.IE5\KP8PU709\MPj04394070000[1].jpg"/>
          <p:cNvPicPr/>
          <p:nvPr/>
        </p:nvPicPr>
        <p:blipFill>
          <a:blip r:embed="rId1"/>
          <a:stretch/>
        </p:blipFill>
        <p:spPr>
          <a:xfrm>
            <a:off x="6286680" y="1785960"/>
            <a:ext cx="2625480" cy="2828880"/>
          </a:xfrm>
          <a:prstGeom prst="rect">
            <a:avLst/>
          </a:prstGeom>
          <a:ln w="0">
            <a:noFill/>
          </a:ln>
        </p:spPr>
      </p:pic>
      <p:sp>
        <p:nvSpPr>
          <p:cNvPr id="650" name="CasellaDiTesto 4"/>
          <p:cNvSpPr/>
          <p:nvPr/>
        </p:nvSpPr>
        <p:spPr>
          <a:xfrm>
            <a:off x="214200" y="2286000"/>
            <a:ext cx="8929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Quali sono le repubbliche marin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Cos’è una repubblica marina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Cosa sono le Tavole Amalfit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Quale fu la repubblica marinara più importan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lick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Quattro domande per inizia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Picture 2" descr="C:\Documents and Settings\Emanuele\Impostazioni locali\Temporary Internet Files\Content.IE5\KP8PU709\MPj04394070000[1].jpg"/>
          <p:cNvPicPr/>
          <p:nvPr/>
        </p:nvPicPr>
        <p:blipFill>
          <a:blip r:embed="rId1"/>
          <a:stretch/>
        </p:blipFill>
        <p:spPr>
          <a:xfrm>
            <a:off x="6286680" y="1785960"/>
            <a:ext cx="2625480" cy="2828880"/>
          </a:xfrm>
          <a:prstGeom prst="rect">
            <a:avLst/>
          </a:prstGeom>
          <a:ln w="0">
            <a:noFill/>
          </a:ln>
        </p:spPr>
      </p:pic>
      <p:sp>
        <p:nvSpPr>
          <p:cNvPr id="618" name="CasellaDiTesto 4"/>
          <p:cNvSpPr/>
          <p:nvPr/>
        </p:nvSpPr>
        <p:spPr>
          <a:xfrm>
            <a:off x="214200" y="2286000"/>
            <a:ext cx="8929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Quali sono le repubbliche marin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Cos’è una repubblica marina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Cosa sono le Tavole Amalfit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Quale fu la repubblica marinara più importan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Le repubbliche marina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CasellaDiTesto 2"/>
          <p:cNvSpPr/>
          <p:nvPr/>
        </p:nvSpPr>
        <p:spPr>
          <a:xfrm>
            <a:off x="214200" y="1928880"/>
            <a:ext cx="871560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La </a:t>
            </a:r>
            <a:r>
              <a:rPr b="0" lang="it-IT" sz="2600" spc="-1" strike="noStrike">
                <a:solidFill>
                  <a:srgbClr val="d16349"/>
                </a:solidFill>
                <a:latin typeface="Georgia"/>
              </a:rPr>
              <a:t>rinascita dei commerci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che caratterizzò l’XI sec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fu anticipata da quattro città itali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CasellaDiTesto 3"/>
          <p:cNvSpPr/>
          <p:nvPr/>
        </p:nvSpPr>
        <p:spPr>
          <a:xfrm>
            <a:off x="285840" y="3071880"/>
            <a:ext cx="2286000" cy="489960"/>
          </a:xfrm>
          <a:prstGeom prst="rect">
            <a:avLst/>
          </a:prstGeom>
          <a:noFill/>
          <a:ln w="9360">
            <a:solidFill>
              <a:srgbClr val="d163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Amalf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asellaDiTesto 4"/>
          <p:cNvSpPr/>
          <p:nvPr/>
        </p:nvSpPr>
        <p:spPr>
          <a:xfrm>
            <a:off x="2143080" y="3857760"/>
            <a:ext cx="2286000" cy="489960"/>
          </a:xfrm>
          <a:prstGeom prst="rect">
            <a:avLst/>
          </a:prstGeom>
          <a:noFill/>
          <a:ln w="9360">
            <a:solidFill>
              <a:srgbClr val="d163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Pi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asellaDiTesto 5"/>
          <p:cNvSpPr/>
          <p:nvPr/>
        </p:nvSpPr>
        <p:spPr>
          <a:xfrm>
            <a:off x="4714920" y="3857760"/>
            <a:ext cx="2286000" cy="489960"/>
          </a:xfrm>
          <a:prstGeom prst="rect">
            <a:avLst/>
          </a:prstGeom>
          <a:noFill/>
          <a:ln w="9360">
            <a:solidFill>
              <a:srgbClr val="d163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Geno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CasellaDiTesto 6"/>
          <p:cNvSpPr/>
          <p:nvPr/>
        </p:nvSpPr>
        <p:spPr>
          <a:xfrm>
            <a:off x="6572160" y="3071880"/>
            <a:ext cx="2286000" cy="489960"/>
          </a:xfrm>
          <a:prstGeom prst="rect">
            <a:avLst/>
          </a:prstGeom>
          <a:noFill/>
          <a:ln w="9360">
            <a:solidFill>
              <a:srgbClr val="d163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Venez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CasellaDiTesto 7"/>
          <p:cNvSpPr/>
          <p:nvPr/>
        </p:nvSpPr>
        <p:spPr>
          <a:xfrm>
            <a:off x="214200" y="5214960"/>
            <a:ext cx="871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orgia"/>
              </a:rPr>
              <a:t>Le quattro </a:t>
            </a:r>
            <a:r>
              <a:rPr b="0" lang="it-IT" sz="3000" spc="-1" strike="noStrike">
                <a:solidFill>
                  <a:srgbClr val="d16349"/>
                </a:solidFill>
                <a:latin typeface="Georgia"/>
              </a:rPr>
              <a:t>repubbliche marin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click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Cosa sono le repubbliche marinar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Si tratta di </a:t>
            </a:r>
            <a:r>
              <a:rPr b="0" lang="it-IT" sz="2700" spc="-1" strike="noStrike">
                <a:solidFill>
                  <a:srgbClr val="a9432b"/>
                </a:solidFill>
                <a:latin typeface="Georgia"/>
              </a:rPr>
              <a:t>città indipendenti </a:t>
            </a: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dotate di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una propria </a:t>
            </a:r>
            <a:r>
              <a:rPr b="0" lang="it-IT" sz="2600" spc="-1" strike="noStrike">
                <a:solidFill>
                  <a:srgbClr val="a9432b"/>
                </a:solidFill>
                <a:latin typeface="Georgia"/>
              </a:rPr>
              <a:t>moneta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accettata in tutto il Mediterraneo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una propria </a:t>
            </a:r>
            <a:r>
              <a:rPr b="0" lang="it-IT" sz="2600" spc="-1" strike="noStrike">
                <a:solidFill>
                  <a:srgbClr val="a9432b"/>
                </a:solidFill>
                <a:latin typeface="Georgia"/>
              </a:rPr>
              <a:t>flotta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, commerciale e da guerra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uno o più </a:t>
            </a:r>
            <a:r>
              <a:rPr b="0" lang="it-IT" sz="2600" spc="-1" strike="noStrike">
                <a:solidFill>
                  <a:srgbClr val="a9432b"/>
                </a:solidFill>
                <a:latin typeface="Georgia"/>
              </a:rPr>
              <a:t>fondachi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, magazzini e alloggi per i mercanti stranieri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un corpo di </a:t>
            </a:r>
            <a:r>
              <a:rPr b="0" lang="it-IT" sz="2600" spc="-1" strike="noStrike">
                <a:solidFill>
                  <a:srgbClr val="a9432b"/>
                </a:solidFill>
                <a:latin typeface="Georgia"/>
              </a:rPr>
              <a:t>consoli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, rappresentanti della città nei vari porti del Mediterraneo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 thruBlk="true"/>
    <p:sndAc>
      <p:stSnd>
        <p:snd r:embed="rId1" name="click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10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1000"/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1000"/>
                                        <p:tgtEl>
                                          <p:spTgt spid="6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Crociate e svilupp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Svolsero un ruolo importantissimo nel corso delle crociat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esse gestivano e controllavano qualsiasi movimento di merci e di persone all’interno del Mediterraneo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Mettevano a disposizione dei crociati le navi, le rifornivano di cib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Prestavano denar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Nonostante il fallimento militare delle crociate, queste città ricavarono grandi guadagni ed ebbero in questo periodo il loro massimo splendo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 thruBlk="true"/>
    <p:sndAc>
      <p:stSnd>
        <p:snd r:embed="rId1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Città di guerra e di commerc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Georgia"/>
              </a:rPr>
              <a:t>Le repubbliche marinare nascono per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difendersi dagli attacchi dei pirati saraceni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contrastare il dominio degli arabi sul Mediterraneo</a:t>
            </a:r>
            <a:r>
              <a:rPr b="0" lang="it-IT" sz="25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Georgia"/>
              </a:rPr>
              <a:t>Nel tempo, esse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stabiliscono stazioni commerciali in tutto il Mediterrane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entrano in rapporto con il mondo arabo e l’impero bizantin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diventano il tramite degli scambi commerciali tra Europa occidentale e Mediterraneo arabo-bizantin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 thruBlk="true"/>
    <p:sndAc>
      <p:stSnd>
        <p:snd r:embed="rId1" name="click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10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10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10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10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1000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Amalf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6500880" y="1428840"/>
            <a:ext cx="2381040" cy="1895400"/>
          </a:xfrm>
          <a:prstGeom prst="rect">
            <a:avLst/>
          </a:prstGeom>
          <a:ln w="0">
            <a:noFill/>
          </a:ln>
        </p:spPr>
      </p:pic>
      <p:sp>
        <p:nvSpPr>
          <p:cNvPr id="635" name="CasellaDiTesto 6"/>
          <p:cNvSpPr/>
          <p:nvPr/>
        </p:nvSpPr>
        <p:spPr>
          <a:xfrm>
            <a:off x="142920" y="1052640"/>
            <a:ext cx="8858160" cy="53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La prima città italiana ad afferma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sui mari fu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Amalfi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, in Campania; 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importava tessuti dall’Or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vi esportava olio d’ol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Amalfi ebbe relazioni soprattutto con Costantinopoli e l’Egi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Emanò le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Tavole Amalfitane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, un codice di diritto nautico usato nel Mediterraneo fino al XVI secolo. Serviva per regolamentare la navigazione, i rapporti tra i marinai e i mercanti, i problemi legati ai commer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Gli Amalfitani usarono per primi la</a:t>
            </a:r>
            <a:r>
              <a:rPr b="0" lang="it-IT" sz="2400" spc="-1" strike="noStrike">
                <a:solidFill>
                  <a:srgbClr val="ff0000"/>
                </a:solidFill>
                <a:latin typeface="Georgia"/>
              </a:rPr>
              <a:t> bussola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(inventata dai Cinesi, importata nel Mediterraneo dagli Ara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lick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malfi fu conquistata dai Normanni nel XII sec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Da allora Genovesi e Pisani l’attaccarono e saccheggiarono più volte dando così inizio alla sua decadenz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 thruBlk="true"/>
    <p:sndAc>
      <p:stSnd>
        <p:snd r:embed="rId1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Pisa e Genov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CasellaDiTesto 6"/>
          <p:cNvSpPr/>
          <p:nvPr/>
        </p:nvSpPr>
        <p:spPr>
          <a:xfrm>
            <a:off x="142920" y="1285920"/>
            <a:ext cx="9001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Dopo Amalfi, acquisirono importanza le cit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di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Pisa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, in Toscana, e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Genova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, in Liguria; 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sottrassero ai Saraceni le isole del Tirreno e le Balea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successivamente si scontrarono nella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Battaglia della Meloria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(1284), vinta dai genove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6357960" y="1357200"/>
            <a:ext cx="2619360" cy="17496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"/>
          <p:cNvPicPr/>
          <p:nvPr/>
        </p:nvPicPr>
        <p:blipFill>
          <a:blip r:embed="rId2"/>
          <a:stretch/>
        </p:blipFill>
        <p:spPr>
          <a:xfrm>
            <a:off x="6372360" y="4343400"/>
            <a:ext cx="2557440" cy="17287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p:transition spd="med">
    <p:fade thruBlk="true"/>
    <p:sndAc>
      <p:stSnd>
        <p:snd r:embed="rId3" name="click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1000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1000"/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5:23:21Z</dcterms:created>
  <dc:creator>Contu</dc:creator>
  <dc:description/>
  <dc:language>en-US</dc:language>
  <cp:lastModifiedBy>raffaella</cp:lastModifiedBy>
  <dcterms:modified xsi:type="dcterms:W3CDTF">2013-04-07T19:04:04Z</dcterms:modified>
  <cp:revision>28</cp:revision>
  <dc:subject/>
  <dc:title>Le repubbliche marinare</dc:title>
</cp:coreProperties>
</file>